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arbrake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E01-8B20-4B1F-97B5-EAD14581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CD6-4241-464A-BC0A-8452AB02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CBC-DD2F-4CE2-BC15-043954BE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40A-3392-4E69-9CE0-F2F1787F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7EE7-DEE2-4FA5-A368-F9AB1874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283A-5A83-41AA-8595-DB7AF64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0625-5715-449B-B208-DAFFD560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0D57-87C3-4C06-ABF6-62A6AFF8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54F-6BF7-4BF1-99EC-DD529089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5EE5-7E4F-42BC-BC99-33D2260E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9CF9-3C42-4472-A74A-44F4F99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A5A-B5AA-4831-8484-DDC3D02D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18C3-5E94-4EAC-9CAF-3AA5402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5125-D66C-41ED-A11D-7526B01E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2AA-873D-46BC-9478-0CC9B4C4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F17C-22CB-40FB-9ACF-79A95E18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4C7D-7D17-437F-A38B-C806E34D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255F6-B981-4C88-83C5-9E6D9363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19822-F9B8-49EF-85E4-AF0A8EE6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C8F8E-299F-4A54-B97E-1B74EEEA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3F6AE-0A28-43FE-AADD-5023506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4445B-F443-4DBB-96C5-9FE6D3BB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E6E-0457-40DE-BD3B-DC0FA09D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06F1D-5AF7-40B4-BC57-ECCF42E2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180CA-6719-4491-8D24-54F4ECB4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F2711-EB82-41FD-89D3-844B7AE3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F7F36-98D6-48F3-A3CD-59F2DAC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33AD9-549B-4917-9A29-3C2F4AD0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00629-06E8-4CD0-B442-DC8DDB32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67140-E09D-4C0D-A2EE-D0654684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EA83-43D0-458E-9CDB-3E2B3AB4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A157-04BA-4F84-9A99-8D04AA69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81C6-7F03-4385-8334-4057DE8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218-40E7-4744-BD66-A5C5C974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85A7-CF9E-4362-8775-DD5394E1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B9F6-1F2F-497C-9015-DDAA60F0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5E525-8751-404D-8D57-5688E87D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430D-EAB9-473C-B58E-657ABAF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8D1A-69D1-42D3-8F16-C051E5F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9326-0CD1-42B9-ADB8-75F80F6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11BB-EEF1-4BF6-A5D1-BF00081D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29D4-189B-4922-8F7B-BF8C00CF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DB139-3247-4D4C-AB68-9EF60D5A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329EC-742C-4707-9412-C659C135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A67-1694-4BCC-9606-ABD041E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E14EC-ED40-4BB6-941A-0A022F6A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2A972-C333-4EA0-A608-B1C83CB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5236F-F7E5-407B-92BE-9C49A29C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DA090-6DC8-4029-B9E5-994F4EF4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993B8-E419-416A-A278-8EBC9F1E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E0179-08ED-4834-B4F8-6BF7E5B9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EA45C-0AC7-435E-95CD-E9C8C664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8B05F-8A0B-42CD-98CB-C1F83E0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88CBB-EB1F-4FCD-88A8-54F88518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61A32-A5D2-4DFF-B9F7-4DD02006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35B-58DD-46F7-999D-183AD826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18FE3-F8BD-48CF-8EF1-73A23C8E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A331E-41F9-4F5A-9938-DA001FA4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2CF81-E96D-45BF-AA1F-6E5BD624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1610B-CD19-4A67-8C94-1B6BA28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B68D3-E2BF-4B8C-834E-6F6442A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7F670-633B-4436-BA39-FA4DA314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18273-10F2-4FEF-849F-A0A6AAF7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AF51B-4FAE-4340-B2AB-3D88E8C1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F79C9-F7BE-405D-8014-95D1ED5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05D10-2FF5-455E-A490-86473F3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177-EE3A-4471-AC38-53BC5EE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7EA90-153F-4EF7-80B1-6637F7E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69878-264E-4F6D-98E0-24ABEE24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12F66-B518-4452-8DC7-C7450F06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2BEBD-E912-45F7-AB27-7CE4EE12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7B4E3-4B49-44C8-BC7E-D62E3240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3AFA6-3678-4F87-9CBA-CFFD46E3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17E14-D7A7-4F18-8041-F8B84EC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BDBD5-CE7F-4631-92D1-B002C3D6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92D0F-CAC4-494F-8AAF-22FC0A23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C30A4-2454-458E-966A-62D24FC6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73E-8E8D-4C51-A91F-1FB52990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A21AD-9CDB-4092-B170-F392C1CD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6FC53-DFCA-45F9-9113-42EAD45A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E1326-692F-4854-BF47-7461F0DC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05D05-702C-4017-BEAB-ED1A518E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50B9E-949B-42C9-B56F-CDFF9EE4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DBE-B17E-4CE0-9B8D-1493BA7A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5C64-EC3A-4F06-88DA-1E3B209D62D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E2D-D55C-4E88-8E06-FD3889887A2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E7D-6AC1-4BC3-8377-AA408E98F9E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79A9-C2F2-4CEB-8BCE-EA3D8E67A06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1E3A-1F0E-40C8-A29B-127FB87756C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39F5-0B9D-4468-ADC4-FA5A93F7726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B99B-42AE-48CE-81BF-CDC28146926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Century Schoolbook"/>
              </a:rPr>
              <a:t>RIESGOS DERIVADOS DE PROCESOS EROSIVOS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FACTORES QUE FAVORECEN LOS MOVIMIENTOS DE LADER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Fuerte pendien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esencia de agua. El agua hace que los materiales cambien su comportamiento (ej. Arcillas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Ausencia de vegetación. La vegetación absorbe parte del agua de lluvia, evita la escorrentía vegetal, sujeción del terre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ncia de estratos de diferente permeabilidad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Presencia de materiales alterad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Estratificación paralela a la pendien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Presencia de fracturas, diaclasas o falla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RIESGO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rectos: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blación o infraestructuras situadas al pie de la ladera o en la cabece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direct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 Rotura o desbordamiento de presas.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 Inundación por represamiento de un cau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PREDICCIÓ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artografía de riesgos (mapas de pendientes, por ejemplo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tección de movimientos que han ocurrido en el pasa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PREVENCIÓN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371600"/>
            <a:ext cx="828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vitar asentamientos en zonas de riesg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dias correctora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ción de la geometría del terreno (de la pendiente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ción de drenajes para evacuar el agua del terre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net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z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alerí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anjas de drena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ubos de drena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vegetación de taludes para disminuir la escorrentía superficial y            sujetar el terreno (raíces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ructuras de conten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ur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las metálic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clajes (bulone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lot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11"/>
          <p:cNvGrpSpPr/>
          <p:nvPr/>
        </p:nvGrpSpPr>
        <p:grpSpPr>
          <a:xfrm>
            <a:off x="969840" y="544680"/>
            <a:ext cx="7203960" cy="5768640"/>
            <a:chOff x="969840" y="544680"/>
            <a:chExt cx="7203960" cy="5768640"/>
          </a:xfrm>
        </p:grpSpPr>
        <p:grpSp>
          <p:nvGrpSpPr>
            <p:cNvPr id="377" name="Group 9"/>
            <p:cNvGrpSpPr/>
            <p:nvPr/>
          </p:nvGrpSpPr>
          <p:grpSpPr>
            <a:xfrm>
              <a:off x="974520" y="549000"/>
              <a:ext cx="7194600" cy="5758920"/>
              <a:chOff x="974520" y="549000"/>
              <a:chExt cx="7194600" cy="5758920"/>
            </a:xfrm>
          </p:grpSpPr>
          <p:sp>
            <p:nvSpPr>
              <p:cNvPr id="378" name="Rectangle 8"/>
              <p:cNvSpPr/>
              <p:nvPr/>
            </p:nvSpPr>
            <p:spPr>
              <a:xfrm>
                <a:off x="974520" y="549000"/>
                <a:ext cx="7194600" cy="5758920"/>
              </a:xfrm>
              <a:prstGeom prst="rect">
                <a:avLst/>
              </a:prstGeom>
              <a:solidFill>
                <a:srgbClr val="deed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grpSp>
            <p:nvGrpSpPr>
              <p:cNvPr id="379" name="Group 7"/>
              <p:cNvGrpSpPr/>
              <p:nvPr/>
            </p:nvGrpSpPr>
            <p:grpSpPr>
              <a:xfrm>
                <a:off x="974520" y="549000"/>
                <a:ext cx="7194600" cy="5758920"/>
                <a:chOff x="974520" y="549000"/>
                <a:chExt cx="7194600" cy="5758920"/>
              </a:xfrm>
            </p:grpSpPr>
            <p:grpSp>
              <p:nvGrpSpPr>
                <p:cNvPr id="380" name="Group 5"/>
                <p:cNvGrpSpPr/>
                <p:nvPr/>
              </p:nvGrpSpPr>
              <p:grpSpPr>
                <a:xfrm>
                  <a:off x="974520" y="549000"/>
                  <a:ext cx="7194600" cy="5306040"/>
                  <a:chOff x="974520" y="549000"/>
                  <a:chExt cx="7194600" cy="5306040"/>
                </a:xfrm>
              </p:grpSpPr>
              <p:sp>
                <p:nvSpPr>
                  <p:cNvPr id="381" name="Rectangle 2"/>
                  <p:cNvSpPr/>
                  <p:nvPr/>
                </p:nvSpPr>
                <p:spPr>
                  <a:xfrm>
                    <a:off x="974520" y="549000"/>
                    <a:ext cx="6259680" cy="4196880"/>
                  </a:xfrm>
                  <a:prstGeom prst="rect">
                    <a:avLst/>
                  </a:prstGeom>
                  <a:solidFill>
                    <a:srgbClr val="deed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</p:txBody>
              </p:sp>
              <p:sp>
                <p:nvSpPr>
                  <p:cNvPr id="382" name="Rectangle 3"/>
                  <p:cNvSpPr/>
                  <p:nvPr/>
                </p:nvSpPr>
                <p:spPr>
                  <a:xfrm>
                    <a:off x="974520" y="549000"/>
                    <a:ext cx="7194600" cy="5306040"/>
                  </a:xfrm>
                  <a:prstGeom prst="rect">
                    <a:avLst/>
                  </a:prstGeom>
                  <a:solidFill>
                    <a:srgbClr val="deed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  </a:t>
                    </a:r>
                    <a:r>
                      <a:rPr b="0" lang="es-ES" sz="324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 </a:t>
                    </a:r>
                    <a:r>
                      <a:rPr b="0" lang="es-E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                                                                                        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</p:txBody>
              </p:sp>
            </p:grpSp>
            <p:sp>
              <p:nvSpPr>
                <p:cNvPr id="383" name="Rectangle 6"/>
                <p:cNvSpPr/>
                <p:nvPr/>
              </p:nvSpPr>
              <p:spPr>
                <a:xfrm>
                  <a:off x="974520" y="549000"/>
                  <a:ext cx="7194600" cy="57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</p:grpSp>
        </p:grpSp>
        <p:sp>
          <p:nvSpPr>
            <p:cNvPr id="384" name="Rectangle 10"/>
            <p:cNvSpPr/>
            <p:nvPr/>
          </p:nvSpPr>
          <p:spPr>
            <a:xfrm>
              <a:off x="969840" y="544680"/>
              <a:ext cx="7203960" cy="5768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85" name="Picture 4" descr="http://www.eird.org/deslizamientos/pictures/pic128/pic128.jpg"/>
          <p:cNvPicPr/>
          <p:nvPr/>
        </p:nvPicPr>
        <p:blipFill>
          <a:blip r:embed="rId1"/>
          <a:stretch/>
        </p:blipFill>
        <p:spPr>
          <a:xfrm>
            <a:off x="1162080" y="59544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ff965c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969840" y="819000"/>
            <a:ext cx="7203960" cy="5221080"/>
            <a:chOff x="969840" y="819000"/>
            <a:chExt cx="7203960" cy="5221080"/>
          </a:xfrm>
        </p:grpSpPr>
        <p:grpSp>
          <p:nvGrpSpPr>
            <p:cNvPr id="389" name="Group 11"/>
            <p:cNvGrpSpPr/>
            <p:nvPr/>
          </p:nvGrpSpPr>
          <p:grpSpPr>
            <a:xfrm>
              <a:off x="974520" y="823680"/>
              <a:ext cx="7194600" cy="5211720"/>
              <a:chOff x="974520" y="823680"/>
              <a:chExt cx="7194600" cy="5211720"/>
            </a:xfrm>
          </p:grpSpPr>
          <p:sp>
            <p:nvSpPr>
              <p:cNvPr id="390" name="Rectangle 10"/>
              <p:cNvSpPr/>
              <p:nvPr/>
            </p:nvSpPr>
            <p:spPr>
              <a:xfrm>
                <a:off x="974520" y="823680"/>
                <a:ext cx="7194600" cy="5211720"/>
              </a:xfrm>
              <a:prstGeom prst="rect">
                <a:avLst/>
              </a:prstGeom>
              <a:solidFill>
                <a:srgbClr val="deed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grpSp>
            <p:nvGrpSpPr>
              <p:cNvPr id="391" name="Group 9"/>
              <p:cNvGrpSpPr/>
              <p:nvPr/>
            </p:nvGrpSpPr>
            <p:grpSpPr>
              <a:xfrm>
                <a:off x="974520" y="823680"/>
                <a:ext cx="7194600" cy="5211720"/>
                <a:chOff x="974520" y="823680"/>
                <a:chExt cx="7194600" cy="5211720"/>
              </a:xfrm>
            </p:grpSpPr>
            <p:grpSp>
              <p:nvGrpSpPr>
                <p:cNvPr id="392" name="Group 7"/>
                <p:cNvGrpSpPr/>
                <p:nvPr/>
              </p:nvGrpSpPr>
              <p:grpSpPr>
                <a:xfrm>
                  <a:off x="974520" y="823680"/>
                  <a:ext cx="7194600" cy="4757400"/>
                  <a:chOff x="974520" y="823680"/>
                  <a:chExt cx="7194600" cy="4757400"/>
                </a:xfrm>
              </p:grpSpPr>
              <p:sp>
                <p:nvSpPr>
                  <p:cNvPr id="393" name="Rectangle 4"/>
                  <p:cNvSpPr/>
                  <p:nvPr/>
                </p:nvSpPr>
                <p:spPr>
                  <a:xfrm>
                    <a:off x="974520" y="823680"/>
                    <a:ext cx="6259680" cy="4197600"/>
                  </a:xfrm>
                  <a:prstGeom prst="rect">
                    <a:avLst/>
                  </a:prstGeom>
                  <a:solidFill>
                    <a:srgbClr val="deed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</p:txBody>
              </p:sp>
              <p:sp>
                <p:nvSpPr>
                  <p:cNvPr id="394" name="Rectangle 5"/>
                  <p:cNvSpPr/>
                  <p:nvPr/>
                </p:nvSpPr>
                <p:spPr>
                  <a:xfrm>
                    <a:off x="974520" y="823680"/>
                    <a:ext cx="7194600" cy="4757400"/>
                  </a:xfrm>
                  <a:prstGeom prst="rect">
                    <a:avLst/>
                  </a:prstGeom>
                  <a:solidFill>
                    <a:srgbClr val="deed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  </a:t>
                    </a:r>
                    <a:r>
                      <a:rPr b="0" lang="es-ES" sz="28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 </a:t>
                    </a:r>
                    <a:r>
                      <a:rPr b="0" lang="es-E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                                                                                        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</p:txBody>
              </p:sp>
            </p:grpSp>
            <p:sp>
              <p:nvSpPr>
                <p:cNvPr id="395" name="Rectangle 8"/>
                <p:cNvSpPr/>
                <p:nvPr/>
              </p:nvSpPr>
              <p:spPr>
                <a:xfrm>
                  <a:off x="974520" y="823680"/>
                  <a:ext cx="7194600" cy="521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</p:grpSp>
        </p:grpSp>
        <p:sp>
          <p:nvSpPr>
            <p:cNvPr id="396" name="Rectangle 12"/>
            <p:cNvSpPr/>
            <p:nvPr/>
          </p:nvSpPr>
          <p:spPr>
            <a:xfrm>
              <a:off x="969840" y="819000"/>
              <a:ext cx="7203960" cy="5221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97" name="Picture 6" descr="http://www.eird.org/deslizamientos/pictures/pic284/pic284.jpg"/>
          <p:cNvPicPr/>
          <p:nvPr/>
        </p:nvPicPr>
        <p:blipFill>
          <a:blip r:embed="rId1"/>
          <a:stretch/>
        </p:blipFill>
        <p:spPr>
          <a:xfrm>
            <a:off x="1143000" y="8701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057320" y="1600200"/>
            <a:ext cx="6267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057320" y="1600200"/>
            <a:ext cx="6267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57320" y="1600200"/>
            <a:ext cx="6267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057320" y="1600200"/>
            <a:ext cx="6267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MOVIMIENTOS DE L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on movimientos de materiales a favor de la gravedad. Están asociados a la presencia de pendientes y a la presencia de agua. Se pueden agrupar para su estudio en cuatro grup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DESLIZAMIENTO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ovimientos a favor de una superficie de fractura. En función de cuál sea esta superficie se distinguen 2 tipo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lizamientos traslacionales. Cuando la superficie de fractura tiene menor o igual pendiente que el terreno. Es más fácil que se produzca cuando hay fallas o cuando alternan rocas competentes y menos competent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izamientos rotacionales (slump). Cuando la superficie de deslizamiento es un plano curvo. Suelen darse en materiales poco cohesivos y laderas escarpadas. Previo al deslizamiento se producen unas grietas en lo alto del escarp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DESPRENDIMIENTO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aída de bloques de rocas desde los escarpes. Puede deberse a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 socavación del escarpe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esencia de fracturas y/o planos de estratificación que individualizan bloques de roc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FLUJO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ovimientos de materiales sueltos que se comportan como fluido cuando se mezclan con agua (los materiales arcillosos son los más comunes).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Soliflux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os flujos pueden producirse con pendientes mínimas. Cuando son provocados por la actividad de un volcán reciben el nombre de lahar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AVALANCHA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ovimientos rápidos de materiales mal clasificados (hay materiales de todos los tamaños mezclados) y sueltos. Pueden alcanzar grandes velocidades. Son facilitados por la presencia de agua y materiales arcillosos. La actividad volcánica y sísmica suele actuar como desencadena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4" name="Object 1"/>
          <p:cNvGraphicFramePr/>
          <p:nvPr/>
        </p:nvGraphicFramePr>
        <p:xfrm>
          <a:off x="1905120" y="128520"/>
          <a:ext cx="495288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8520"/>
                    <a:ext cx="495288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Reptación"/>
          <p:cNvPicPr/>
          <p:nvPr/>
        </p:nvPicPr>
        <p:blipFill>
          <a:blip r:embed="rId1"/>
          <a:stretch/>
        </p:blipFill>
        <p:spPr>
          <a:xfrm>
            <a:off x="1857240" y="1071720"/>
            <a:ext cx="53787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Flujo"/>
          <p:cNvPicPr/>
          <p:nvPr/>
        </p:nvPicPr>
        <p:blipFill>
          <a:blip r:embed="rId1"/>
          <a:stretch/>
        </p:blipFill>
        <p:spPr>
          <a:xfrm>
            <a:off x="109440" y="714240"/>
            <a:ext cx="9034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9:13:14Z</dcterms:created>
  <dc:creator>Inma</dc:creator>
  <dc:description/>
  <dc:language>en-US</dc:language>
  <cp:lastModifiedBy>Inma</cp:lastModifiedBy>
  <dcterms:modified xsi:type="dcterms:W3CDTF">2011-11-15T19:26:23Z</dcterms:modified>
  <cp:revision>3</cp:revision>
  <dc:subject/>
  <dc:title>Riesgos derivados de procesos erosivos.</dc:title>
</cp:coreProperties>
</file>